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047-B236-437F-A9FB-E72615057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747-784A-4AB9-BBD5-13BF7B49E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38C-7A60-4B38-BE46-D180A200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F05-EA67-4C3C-A97F-734F8678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4B3-7037-4146-AE8E-9BEC3A29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4F1-90E4-4841-ACA3-C693239D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9ED-DD1D-4832-AB61-0E3CBD5A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6AF-874C-4D5C-88F5-D621765F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DE1-B0A3-4AAA-A7C7-E5727DD9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316-AC96-4862-A0E8-135624D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A13-BED5-4418-AB62-9A07981B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741-90F1-4E61-8EB6-211A754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88F-EBF0-49BA-B1D9-1A5FE81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D96-66BE-472A-B821-7CCB4D7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DD3E-2F1D-429B-99B6-D624732AB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160" y="91800"/>
            <a:ext cx="8959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/ASYNCHRONOUS LEARNING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762120"/>
          <a:ext cx="8534520" cy="5790960"/>
        </p:xfrm>
        <a:graphic>
          <a:graphicData uri="http://schemas.openxmlformats.org/drawingml/2006/table">
            <a:tbl>
              <a:tblPr/>
              <a:tblGrid>
                <a:gridCol w="1414440"/>
                <a:gridCol w="3346560"/>
                <a:gridCol w="3773520"/>
              </a:tblGrid>
              <a:tr h="623880"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ynchro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308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mediat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al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n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process info and formulate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37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d Reflection T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s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ction is limited to written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s can follow along with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 inf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 telecon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calendar or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 collaboration for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-ended questions by facili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6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or L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learners engag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center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 learner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time to attend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actively engaged and avoid dist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-time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own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ain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 can be asked at any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37:21Z</dcterms:created>
  <dc:creator>PATNPENS</dc:creator>
  <dc:description/>
  <dc:language>en-US</dc:language>
  <cp:lastModifiedBy>PATNPENS</cp:lastModifiedBy>
  <dcterms:modified xsi:type="dcterms:W3CDTF">2012-03-07T18:16:08Z</dcterms:modified>
  <cp:revision>7</cp:revision>
  <dc:subject/>
  <dc:title>SYNCHRONOUS/ASYNCHRONOUS LEARNING COMPARISON</dc:title>
</cp:coreProperties>
</file>